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7D8-7CC8-42C4-A296-D311DF05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222-C628-4485-85DD-DBE468AE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716-493E-4B34-BB0D-AE2A385C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3C1-7B40-46E6-BB40-26108A5D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807-7956-4F94-BCD4-DC09EC8B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EEE-1764-48AF-BC0F-2D288605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B3B-D6BE-4AB3-B113-1D033094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287-876B-4CED-98C8-9B48FED5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95C-E319-4AA6-9D5B-D5787ADB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880-6FF1-4DA1-80BD-4622D52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C48-9F1B-4C62-B7CD-972E1D33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23A-5E3D-4A0C-AF9E-182B6C3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59CF-E77F-4BCC-AFA2-CAEDBD465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008840" y="6478560"/>
            <a:ext cx="2025720" cy="304920"/>
            <a:chOff x="7008840" y="6478560"/>
            <a:chExt cx="2025720" cy="304920"/>
          </a:xfrm>
        </p:grpSpPr>
        <p:pic>
          <p:nvPicPr>
            <p:cNvPr id="6" name="RSCLOGO1" descr=""/>
            <p:cNvPicPr/>
            <p:nvPr/>
          </p:nvPicPr>
          <p:blipFill>
            <a:blip r:embed="rId2"/>
            <a:srcRect l="0" t="0" r="0" b="27585"/>
            <a:stretch/>
          </p:blipFill>
          <p:spPr>
            <a:xfrm flipH="1" rot="10800000">
              <a:off x="8346960" y="6525720"/>
              <a:ext cx="68760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008840" y="6478560"/>
              <a:ext cx="12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Original slide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repared for t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троение электронных оболоче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4_1_1_L1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Атом углер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5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0500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5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63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67" name=""/>
            <p:cNvSpPr/>
            <p:nvPr/>
          </p:nvSpPr>
          <p:spPr>
            <a:xfrm>
              <a:off x="48769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5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915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5784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ли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L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8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 3 элект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8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93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97" name=""/>
            <p:cNvSpPr/>
            <p:nvPr/>
          </p:nvSpPr>
          <p:spPr>
            <a:xfrm>
              <a:off x="48769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19051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44956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4480" y="4495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915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5784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066680" y="1219320"/>
            <a:ext cx="7772400" cy="4343400"/>
            <a:chOff x="1066680" y="1219320"/>
            <a:chExt cx="7772400" cy="4343400"/>
          </a:xfrm>
        </p:grpSpPr>
        <p:sp>
          <p:nvSpPr>
            <p:cNvPr id="107" name=""/>
            <p:cNvSpPr/>
            <p:nvPr/>
          </p:nvSpPr>
          <p:spPr>
            <a:xfrm>
              <a:off x="80773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773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2193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11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12193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51055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4480" y="5105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нат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12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 11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36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05000" y="2114640"/>
            <a:ext cx="9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130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135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139" name=""/>
            <p:cNvSpPr/>
            <p:nvPr/>
          </p:nvSpPr>
          <p:spPr>
            <a:xfrm>
              <a:off x="4876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5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784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066680" y="1219320"/>
            <a:ext cx="7772400" cy="4343400"/>
            <a:chOff x="1066680" y="1219320"/>
            <a:chExt cx="7772400" cy="4343400"/>
          </a:xfrm>
        </p:grpSpPr>
        <p:sp>
          <p:nvSpPr>
            <p:cNvPr id="149" name=""/>
            <p:cNvSpPr/>
            <p:nvPr/>
          </p:nvSpPr>
          <p:spPr>
            <a:xfrm>
              <a:off x="80773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773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12193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5880" y="121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9920" y="51055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4480" y="5105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каль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162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 20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36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0500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114800" y="1066680"/>
            <a:ext cx="4724280" cy="4724640"/>
            <a:chOff x="4114800" y="1066680"/>
            <a:chExt cx="4724280" cy="4724640"/>
          </a:xfrm>
        </p:grpSpPr>
        <p:sp>
          <p:nvSpPr>
            <p:cNvPr id="172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066680"/>
              <a:ext cx="4724280" cy="4724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178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182" name=""/>
            <p:cNvSpPr/>
            <p:nvPr/>
          </p:nvSpPr>
          <p:spPr>
            <a:xfrm>
              <a:off x="4876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915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915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5784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066680" y="1219320"/>
            <a:ext cx="7772400" cy="4345920"/>
            <a:chOff x="1066680" y="1219320"/>
            <a:chExt cx="7772400" cy="4345920"/>
          </a:xfrm>
        </p:grpSpPr>
        <p:sp>
          <p:nvSpPr>
            <p:cNvPr id="192" name=""/>
            <p:cNvSpPr/>
            <p:nvPr/>
          </p:nvSpPr>
          <p:spPr>
            <a:xfrm>
              <a:off x="80773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773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852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911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121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0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510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920" y="838080"/>
            <a:ext cx="6705360" cy="4648320"/>
            <a:chOff x="304920" y="838080"/>
            <a:chExt cx="6705360" cy="4648320"/>
          </a:xfrm>
        </p:grpSpPr>
        <p:sp>
          <p:nvSpPr>
            <p:cNvPr id="202" name=""/>
            <p:cNvSpPr/>
            <p:nvPr/>
          </p:nvSpPr>
          <p:spPr>
            <a:xfrm>
              <a:off x="304920" y="502920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520" y="838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3600" y="838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06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ион  каль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3160" y="2361960"/>
            <a:ext cx="2972160" cy="1295640"/>
            <a:chOff x="533160" y="2361960"/>
            <a:chExt cx="2972160" cy="1295640"/>
          </a:xfrm>
        </p:grpSpPr>
        <p:sp>
          <p:nvSpPr>
            <p:cNvPr id="213" name=""/>
            <p:cNvSpPr/>
            <p:nvPr/>
          </p:nvSpPr>
          <p:spPr>
            <a:xfrm>
              <a:off x="83844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53316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57200" y="3505320"/>
            <a:ext cx="339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оложительно заряженный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9552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2514600"/>
            <a:ext cx="7048440" cy="2514600"/>
            <a:chOff x="0" y="2514600"/>
            <a:chExt cx="7048440" cy="2514600"/>
          </a:xfrm>
        </p:grpSpPr>
        <p:sp>
          <p:nvSpPr>
            <p:cNvPr id="220" name=""/>
            <p:cNvSpPr/>
            <p:nvPr/>
          </p:nvSpPr>
          <p:spPr>
            <a:xfrm>
              <a:off x="628668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99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48120" y="1460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12193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" y="3886200"/>
            <a:ext cx="440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0-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4097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43040" y="1905120"/>
            <a:ext cx="7448400" cy="3047760"/>
            <a:chOff x="743040" y="1905120"/>
            <a:chExt cx="7448400" cy="3047760"/>
          </a:xfrm>
        </p:grpSpPr>
        <p:sp>
          <p:nvSpPr>
            <p:cNvPr id="233" name=""/>
            <p:cNvSpPr/>
            <p:nvPr/>
          </p:nvSpPr>
          <p:spPr>
            <a:xfrm>
              <a:off x="603900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6760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8760" y="2971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8668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2968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784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3040" y="4495680"/>
              <a:ext cx="35812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76240" y="1219320"/>
            <a:ext cx="7962840" cy="4365000"/>
            <a:chOff x="876240" y="1219320"/>
            <a:chExt cx="7962840" cy="4365000"/>
          </a:xfrm>
        </p:grpSpPr>
        <p:sp>
          <p:nvSpPr>
            <p:cNvPr id="243" name=""/>
            <p:cNvSpPr/>
            <p:nvPr/>
          </p:nvSpPr>
          <p:spPr>
            <a:xfrm>
              <a:off x="80773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11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773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8668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911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900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58080" y="512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512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510552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981080" y="14097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54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атион маг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160" y="2361960"/>
            <a:ext cx="2972160" cy="1295640"/>
            <a:chOff x="533160" y="2361960"/>
            <a:chExt cx="2972160" cy="1295640"/>
          </a:xfrm>
        </p:grpSpPr>
        <p:sp>
          <p:nvSpPr>
            <p:cNvPr id="261" name=""/>
            <p:cNvSpPr/>
            <p:nvPr/>
          </p:nvSpPr>
          <p:spPr>
            <a:xfrm>
              <a:off x="83844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53316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28600" y="33526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оложительно заряженный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9552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2514600"/>
            <a:ext cx="7010280" cy="2514600"/>
            <a:chOff x="0" y="2514600"/>
            <a:chExt cx="7010280" cy="2514600"/>
          </a:xfrm>
        </p:grpSpPr>
        <p:sp>
          <p:nvSpPr>
            <p:cNvPr id="268" name=""/>
            <p:cNvSpPr/>
            <p:nvPr/>
          </p:nvSpPr>
          <p:spPr>
            <a:xfrm>
              <a:off x="62485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199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914400" y="1905120"/>
            <a:ext cx="7277040" cy="3124080"/>
            <a:chOff x="914400" y="1905120"/>
            <a:chExt cx="7277040" cy="3124080"/>
          </a:xfrm>
        </p:grpSpPr>
        <p:sp>
          <p:nvSpPr>
            <p:cNvPr id="272" name=""/>
            <p:cNvSpPr/>
            <p:nvPr/>
          </p:nvSpPr>
          <p:spPr>
            <a:xfrm>
              <a:off x="4838760" y="2990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968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76800" y="4457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199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24480" y="4457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3876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8580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M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2193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" y="38862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2-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8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Хлорид-и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61960"/>
            <a:ext cx="3428640" cy="1295640"/>
            <a:chOff x="762120" y="2361960"/>
            <a:chExt cx="3428640" cy="1295640"/>
          </a:xfrm>
        </p:grpSpPr>
        <p:sp>
          <p:nvSpPr>
            <p:cNvPr id="295" name=""/>
            <p:cNvSpPr/>
            <p:nvPr/>
          </p:nvSpPr>
          <p:spPr>
            <a:xfrm>
              <a:off x="1113840" y="2819520"/>
              <a:ext cx="307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Количество протонов в ядр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62120" y="2361960"/>
              <a:ext cx="791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0" y="3390840"/>
            <a:ext cx="4191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Verdana"/>
              </a:rPr>
              <a:t>Отрицательно заряженный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1460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2495520"/>
            <a:ext cx="7029360" cy="2533680"/>
            <a:chOff x="0" y="2495520"/>
            <a:chExt cx="7029360" cy="2533680"/>
          </a:xfrm>
        </p:grpSpPr>
        <p:sp>
          <p:nvSpPr>
            <p:cNvPr id="302" name=""/>
            <p:cNvSpPr/>
            <p:nvPr/>
          </p:nvSpPr>
          <p:spPr>
            <a:xfrm>
              <a:off x="626760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0084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914400" y="1905120"/>
            <a:ext cx="7277040" cy="3124080"/>
            <a:chOff x="914400" y="1905120"/>
            <a:chExt cx="7277040" cy="3124080"/>
          </a:xfrm>
        </p:grpSpPr>
        <p:sp>
          <p:nvSpPr>
            <p:cNvPr id="306" name=""/>
            <p:cNvSpPr/>
            <p:nvPr/>
          </p:nvSpPr>
          <p:spPr>
            <a:xfrm>
              <a:off x="4857840" y="3009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6760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29680" y="3238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5808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199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24480" y="4476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3876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91456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81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04880" y="1238400"/>
            <a:ext cx="8134200" cy="4345920"/>
            <a:chOff x="704880" y="1238400"/>
            <a:chExt cx="8134200" cy="4345920"/>
          </a:xfrm>
        </p:grpSpPr>
        <p:sp>
          <p:nvSpPr>
            <p:cNvPr id="318" name=""/>
            <p:cNvSpPr/>
            <p:nvPr/>
          </p:nvSpPr>
          <p:spPr>
            <a:xfrm>
              <a:off x="8077320" y="3219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911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4880" y="5048280"/>
              <a:ext cx="35812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77320" y="2914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48520" y="1238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1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81760" y="1238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58080" y="512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24480" y="512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6668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11430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240" y="3886200"/>
            <a:ext cx="396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7+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24200" y="140976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1219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335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Оксид-и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066320" y="2361960"/>
            <a:ext cx="2972160" cy="1295640"/>
            <a:chOff x="1066320" y="2361960"/>
            <a:chExt cx="2972160" cy="1295640"/>
          </a:xfrm>
        </p:grpSpPr>
        <p:sp>
          <p:nvSpPr>
            <p:cNvPr id="342" name=""/>
            <p:cNvSpPr/>
            <p:nvPr/>
          </p:nvSpPr>
          <p:spPr>
            <a:xfrm>
              <a:off x="137160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Число протонов в яд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06632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28560" y="3429000"/>
            <a:ext cx="232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ан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1460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05920" y="53352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00200" y="121932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60" y="38862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8+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66960" y="140976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1096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95320" y="1905120"/>
            <a:ext cx="7277040" cy="3124080"/>
            <a:chOff x="895320" y="1905120"/>
            <a:chExt cx="7277040" cy="3124080"/>
          </a:xfrm>
        </p:grpSpPr>
        <p:sp>
          <p:nvSpPr>
            <p:cNvPr id="356" name=""/>
            <p:cNvSpPr/>
            <p:nvPr/>
          </p:nvSpPr>
          <p:spPr>
            <a:xfrm>
              <a:off x="4838760" y="3009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10600" y="3238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900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0084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9532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05400" y="4476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1060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196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0" y="2495520"/>
            <a:ext cx="7029360" cy="2533680"/>
            <a:chOff x="0" y="2495520"/>
            <a:chExt cx="7029360" cy="2533680"/>
          </a:xfrm>
        </p:grpSpPr>
        <p:sp>
          <p:nvSpPr>
            <p:cNvPr id="366" name=""/>
            <p:cNvSpPr/>
            <p:nvPr/>
          </p:nvSpPr>
          <p:spPr>
            <a:xfrm>
              <a:off x="626760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0084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wis</dc:creator>
  <dc:description>Electron arrangement in shells related to atomic number and configuration</dc:description>
  <cp:keywords>electron shells</cp:keywords>
  <dc:language>en-US</dc:language>
  <cp:lastModifiedBy>Ахметов Марат Анварович</cp:lastModifiedBy>
  <dcterms:modified xsi:type="dcterms:W3CDTF">2003-04-03T07:44:59Z</dcterms:modified>
  <cp:revision>69</cp:revision>
  <dc:subject/>
  <dc:title>electron shells</dc:title>
</cp:coreProperties>
</file>